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D52-4A11-4F57-970F-0A8E3E08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77B-A9C3-4FE2-8D9C-41EBF4F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10F-B3EF-4D4C-88A3-0EB1DD36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7C3-EFC6-413E-9911-D03FC563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460A-19D4-455E-9016-CFCD4FE6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1AA-C9CF-4688-831F-08C4D4B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131-117C-4699-9641-05C84207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487-7986-4D1D-816C-F4D442B6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FB1-0E8E-4B70-BF7D-6ADB876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296F-05E9-471F-A464-CD7C3BC3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2DF-2E5E-4D78-9DC5-67F79E6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715-EA5D-4689-BE05-370CBF3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078A-32B1-4D98-933C-B174736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A91F-9FEA-4A23-8240-90CF0B8D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414-FA02-4080-B927-3BA7DBE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E34-7071-4129-A76E-35F590C5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5C28-65B1-458B-8EBB-026D828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112-0274-4305-9C76-8080C1E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A5F-491D-4DA8-9285-55BF54A3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449-E64E-4CD9-ACF1-7FC3210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667-A5CD-48F2-A6A0-103CF395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99F-F573-4E19-BEA7-64AC102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50C-D470-4E63-A614-E974FBB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9C0-29B2-44C9-B711-87C4BAA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78E-193C-4613-80A8-68F9098D6584}" type="slidenum"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232-50BC-48F9-9988-A942000C2A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Qué es un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Qu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 es un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 Web de construcción col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 de Editar (no es necesario conocer programación, basta con saber manejar un procesador de text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incluir texto, imagen, archivos, vide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do por usuarios (permis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49400" y="1828800"/>
            <a:ext cx="524520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26668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8560" y="22575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40" y="240048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Índice Te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7160" y="355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676520"/>
            <a:ext cx="609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640" y="1371600"/>
            <a:ext cx="23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os de control (Histo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733920" y="167652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560" y="1409760"/>
            <a:ext cx="23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cusiones, Foros de De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523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880" y="1295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ág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858000" y="243792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1640" y="320040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editar las pág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88960" y="1828800"/>
            <a:ext cx="616428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4952520" y="2285640"/>
            <a:ext cx="12956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3120" y="3924360"/>
            <a:ext cx="272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a barra de edición, es el ele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ue nos permitirá añadir tex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tos, videos, archivos, etc.; a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o gestionar cambi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odificaci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619760" cy="55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27432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25909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09880" y="2362320"/>
            <a:ext cx="1526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72000" y="35049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9051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6560" y="407664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ertar videos, páginas web, archivos onli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entaciones power point onl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99000" y="1943280"/>
            <a:ext cx="175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ar nue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bajo o los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3720" y="1447920"/>
            <a:ext cx="20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visualizar los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es de gra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6320" y="2057400"/>
            <a:ext cx="19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blecer hipervíncu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6640" y="2133720"/>
            <a:ext cx="200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lección y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fuentes: tipo de le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amaño, col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0560" y="2629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3505320"/>
            <a:ext cx="9144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93000" y="4762440"/>
            <a:ext cx="511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bir e insertar videos, archivos, fotos… desde nuestro ordena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tal manera que este contenido será subido a la red y grabado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estra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C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mo crear nuestr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kis gratuitas y sin publicidad para educac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8320" y="1900080"/>
            <a:ext cx="37335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0:34:32Z</dcterms:created>
  <dc:creator>Usuario de Office 2004 Test Drive</dc:creator>
  <dc:description/>
  <dc:language>en-US</dc:language>
  <cp:lastModifiedBy>Usuario de Office 2004 Test Drive</cp:lastModifiedBy>
  <dcterms:modified xsi:type="dcterms:W3CDTF">2008-10-12T11:23:10Z</dcterms:modified>
  <cp:revision>1</cp:revision>
  <dc:subject/>
  <dc:title>¿Qué es una Wiki?</dc:title>
</cp:coreProperties>
</file>